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6C93-75CA-4661-8E07-7811F196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091-0365-4AD2-8B0A-BDA1C22C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16A-9015-4099-8A46-99B332D5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FD0-F586-4735-88B4-F1D0474D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3D0-1494-4109-988E-F8EA3114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127-74ED-4D11-ACEF-23041CC6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6FF-2E2D-4D5A-8326-9745230B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335-CA1E-4F54-9D0B-B145C4AD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D1C-0D1E-4AF3-8AD4-F8920A53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C76-1D9A-4EC6-9B08-FA73D187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723-E93D-4D92-AAD2-81B7E8D1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673-AF71-40A2-BDA6-ED555518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7A9F-2948-45E8-833A-594E5EE1F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GLOBALIZZAZION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39625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4572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-2818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438280"/>
            <a:ext cx="3124080" cy="1447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281000">
            <a:off x="304560" y="1904760"/>
            <a:ext cx="2895480" cy="914400"/>
          </a:xfrm>
          <a:prstGeom prst="rightArrow">
            <a:avLst>
              <a:gd name="adj1" fmla="val 50000"/>
              <a:gd name="adj2" fmla="val 7916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glioramento dei traspo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9901400">
            <a:off x="990720" y="3885840"/>
            <a:ext cx="2466720" cy="1176480"/>
          </a:xfrm>
          <a:prstGeom prst="rightArrow">
            <a:avLst>
              <a:gd name="adj1" fmla="val 50000"/>
              <a:gd name="adj2" fmla="val 5241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lior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 mezzi di  comunic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76400" y="3813120"/>
            <a:ext cx="1536120" cy="143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403848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4419360" y="182844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335268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5029200"/>
            <a:ext cx="1523880" cy="1066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duzione dista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410080"/>
            <a:ext cx="121896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li di vi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2895480"/>
            <a:ext cx="1447920" cy="1600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b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ol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60600">
            <a:off x="2819160" y="533520"/>
            <a:ext cx="2057400" cy="1295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b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ol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s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685800"/>
            <a:ext cx="1523880" cy="1219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migrazion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t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cultur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2952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7:07:23Z</dcterms:created>
  <dc:creator>studente</dc:creator>
  <dc:description/>
  <dc:language>en-US</dc:language>
  <cp:lastModifiedBy>s</cp:lastModifiedBy>
  <dcterms:modified xsi:type="dcterms:W3CDTF">2017-02-13T09:07:26Z</dcterms:modified>
  <cp:revision>6</cp:revision>
  <dc:subject/>
  <dc:title>Presentazione di PowerPoint</dc:title>
</cp:coreProperties>
</file>